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wmf" ContentType="image/x-wmf"/>
  <Override PartName="/ppt/media/image1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AB55-1EF0-4AA9-9386-E6ED03B3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56B-B093-4B20-8676-F7AC4C42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8FE-6C8F-4F7D-B92C-4213EBE82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2AD0-64EA-41BA-8C8B-1FE7476C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C99-7160-4033-9921-399B190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4AC-E0CB-49A3-8CAD-8566A8F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58F-812E-4EA6-AC0E-161229C0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D90-64D3-439E-BBA6-36BBC59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2DE-3F8E-495C-9642-9EBEDCF0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DB5-F2C9-46DD-859C-79D27395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2CA5-EE16-4265-86DD-123F7450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0C87-CFB6-49AA-9DB4-C261E263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28FB-53AD-46D5-87D3-1BDEF6B1912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 algn="ctr"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www.gsmarena.com/sagem_vs1-pictures-1181.php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51424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Status Project JERR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6296040" cy="1594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Simply Jerry UE Workshop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Vodafone – BenQ Mobile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VF-Group, Düsseldorf Tower 21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enQ Mobile / WK, 22.02.200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12120" indent="-31212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Kick-off workshop of the complete Jerry Project Team from Feb 13th to 17th in Beijing: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project team is established with clear responsibilitie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feasibility of all requested features is analyz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 detailed project plan is establish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all software workpackages are assigned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76080" indent="-25992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he Agile software development approach is agreed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(to be communicated with VF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1125360"/>
            <a:ext cx="8305920" cy="16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Stack-up and PCB floorplan in line with new Jerry-ID recently being signed-off by VF.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... with minor adaptations on ID to improve erg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887560"/>
            <a:ext cx="83059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First working PCB’s scheduled for Mid 3/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3839760"/>
            <a:ext cx="83059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Fine tuning of mechanical design is running. Design freeze is scheduled for 28 February. 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Release of 100% data for hardtools on 25 April. 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335240"/>
            <a:ext cx="830592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s: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osition for lanyard attach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keypad back lights – blue vs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-touch finish on battery cover</a:t>
            </a:r>
            <a:br>
              <a:rPr sz="2400"/>
            </a:b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=&gt;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potential color mismatch with middl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jewel-sticker on soft-touch 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hrome plating of groove in function keypa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47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Hardware &amp; Mechanics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177560"/>
            <a:ext cx="830592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uccessfully changed from EGRadio / Apoxi</a:t>
            </a:r>
            <a:br>
              <a:rPr sz="3200"/>
            </a:b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to SGlite / Native platfom in Jan ’06 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resolving resources conflicts with Goldfinch (VF listed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653760" indent="-251280">
              <a:spcBef>
                <a:spcPts val="601"/>
              </a:spcBef>
              <a:buClr>
                <a:srgbClr val="3a0e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... and securing time-to-market for Jerr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900000"/>
            <a:ext cx="8305920" cy="52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Agile software development approach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Each software feature is separated into </a:t>
            </a:r>
            <a:r>
              <a:rPr b="0" i="1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handy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work packages of at most 4 weeks duration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/ work packages are collected in a list of prioritized ”backlog” items. This list is owned by the product mana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whole software is developed in several successive steps (”sprints”), in each of which a defined and agreed set of backlog items from the top of the list is handled. This approach is ”test driven” (TDD) and will provide a testable intermediate phone software at the end of each spr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he intermediate software result is checked and released by the custom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503360" y="1320840"/>
            <a:ext cx="5713560" cy="4867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-74520" y="825480"/>
            <a:ext cx="581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clustered and analyz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69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Project Status [Software]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7" name=""/>
          <p:cNvSpPr/>
          <p:nvPr/>
        </p:nvSpPr>
        <p:spPr>
          <a:xfrm>
            <a:off x="-394560" y="825480"/>
            <a:ext cx="97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 features are  separated into workpackages of max 4 wks leng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7720" y="1521000"/>
            <a:ext cx="7898040" cy="394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3" name=""/>
          <p:cNvSpPr/>
          <p:nvPr/>
        </p:nvSpPr>
        <p:spPr>
          <a:xfrm>
            <a:off x="4205880" y="1746360"/>
            <a:ext cx="25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=      Design Fre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30440" y="295416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4400" y="325116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07760" y="460368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75760" y="557208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hipment to Opcos by: 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3 O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3000" y="771480"/>
            <a:ext cx="32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ustomer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CONTENT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1067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Jerry – High Level Features (ID, Software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Project team setup   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81080"/>
            <a:ext cx="8305920" cy="160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tatus (ID, HW, S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Agile SW developmen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Jerry – Projec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657600"/>
            <a:ext cx="8305920" cy="160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CD compliance – Smart Simply 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Open Issue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Text Input Review List -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5410080"/>
            <a:ext cx="8305920" cy="5335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98440" y="9144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T. Ba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94440" y="2133720"/>
            <a:ext cx="17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. Kleb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8520" y="38098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C. Lut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48080" y="54388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66247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Jerry Vodafone Approval plan (SGL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00476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44936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9540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343240" y="980640"/>
            <a:ext cx="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7480" y="980640"/>
            <a:ext cx="180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23064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6052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123800" y="980640"/>
            <a:ext cx="176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564080" y="980640"/>
            <a:ext cx="468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016600" y="980640"/>
            <a:ext cx="3024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43564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351480" y="980640"/>
            <a:ext cx="223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660840" y="980640"/>
            <a:ext cx="19080" cy="554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804000" y="1052640"/>
            <a:ext cx="1440" cy="5472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7307280" y="980640"/>
            <a:ext cx="144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5867280" y="980640"/>
            <a:ext cx="7920" cy="5472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04000" y="1700280"/>
            <a:ext cx="465120" cy="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07080" y="3878280"/>
            <a:ext cx="15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2360" y="1052640"/>
            <a:ext cx="15062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F f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164360" y="1628640"/>
            <a:ext cx="12060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38480" y="1697040"/>
            <a:ext cx="3989160" cy="3240"/>
          </a:xfrm>
          <a:prstGeom prst="line">
            <a:avLst/>
          </a:prstGeom>
          <a:ln w="3816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360" y="1696680"/>
            <a:ext cx="1531800" cy="34920"/>
          </a:xfrm>
          <a:prstGeom prst="line">
            <a:avLst/>
          </a:prstGeom>
          <a:ln w="38160">
            <a:solidFill>
              <a:srgbClr val="8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56360" y="1628640"/>
            <a:ext cx="122040" cy="14472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80360" y="1844640"/>
            <a:ext cx="1085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art shi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64040" y="1314360"/>
            <a:ext cx="180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CF / TA s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39760" y="1625760"/>
            <a:ext cx="119160" cy="144360"/>
          </a:xfrm>
          <a:prstGeom prst="diamond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76360" y="2492280"/>
            <a:ext cx="82548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76720" y="2491920"/>
            <a:ext cx="3527280" cy="14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2492280"/>
            <a:ext cx="466920" cy="144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65160" y="2666880"/>
            <a:ext cx="180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e-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65480" y="2685960"/>
            <a:ext cx="361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cceptance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13480" y="2852640"/>
            <a:ext cx="1084320" cy="3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01080" y="2276640"/>
            <a:ext cx="1440" cy="261612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2060640"/>
            <a:ext cx="36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8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32000" y="4221000"/>
            <a:ext cx="17460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4653000"/>
            <a:ext cx="16416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94172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4941720"/>
            <a:ext cx="1133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486900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92640"/>
            <a:ext cx="173160" cy="235080"/>
          </a:xfrm>
          <a:prstGeom prst="triangle">
            <a:avLst>
              <a:gd name="adj" fmla="val 50000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41120" y="4653000"/>
            <a:ext cx="144108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Test Phase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298560" y="4365720"/>
            <a:ext cx="1441080" cy="536400"/>
            <a:chOff x="6298560" y="4365720"/>
            <a:chExt cx="1441080" cy="536400"/>
          </a:xfrm>
        </p:grpSpPr>
        <p:sp>
          <p:nvSpPr>
            <p:cNvPr id="243" name=""/>
            <p:cNvSpPr/>
            <p:nvPr/>
          </p:nvSpPr>
          <p:spPr>
            <a:xfrm>
              <a:off x="6701760" y="4365720"/>
              <a:ext cx="173160" cy="234000"/>
            </a:xfrm>
            <a:prstGeom prst="triangle">
              <a:avLst>
                <a:gd name="adj" fmla="val 50000"/>
              </a:avLst>
            </a:prstGeom>
            <a:solidFill>
              <a:srgbClr val="bad1e8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98560" y="4651920"/>
              <a:ext cx="1441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t">
              <a:sp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2b5d"/>
                  </a:solidFill>
                  <a:latin typeface="Arial"/>
                </a:rPr>
                <a:t>Start Test Phase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03280" y="4292640"/>
            <a:ext cx="173160" cy="235080"/>
          </a:xfrm>
          <a:prstGeom prst="triangle">
            <a:avLst>
              <a:gd name="adj" fmla="val 57144"/>
            </a:avLst>
          </a:prstGeom>
          <a:solidFill>
            <a:srgbClr val="bad1e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85840" y="4633920"/>
            <a:ext cx="10843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Start Pre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48000" y="4869000"/>
            <a:ext cx="1008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2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2700000" y="5494320"/>
            <a:ext cx="4692960" cy="259920"/>
            <a:chOff x="2700000" y="5494320"/>
            <a:chExt cx="4692960" cy="259920"/>
          </a:xfrm>
        </p:grpSpPr>
        <p:sp>
          <p:nvSpPr>
            <p:cNvPr id="249" name=""/>
            <p:cNvSpPr/>
            <p:nvPr/>
          </p:nvSpPr>
          <p:spPr>
            <a:xfrm flipH="1">
              <a:off x="2699640" y="5502240"/>
              <a:ext cx="1983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314240" y="5502240"/>
              <a:ext cx="19980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188040" y="5502240"/>
              <a:ext cx="200160" cy="203400"/>
            </a:xfrm>
            <a:prstGeom prst="flowChartExtra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59320" y="5499000"/>
              <a:ext cx="113508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25640" y="5504040"/>
              <a:ext cx="11318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5494320"/>
              <a:ext cx="113364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6800" anchor="t">
              <a:sp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</a:rPr>
                <a:t>SW Drop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24000" y="4192560"/>
            <a:ext cx="7777080" cy="2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080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939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49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385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828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259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6702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133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56160" y="41194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076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42120" y="4119480"/>
            <a:ext cx="144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8636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149720"/>
            <a:ext cx="144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0872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63400" y="4119480"/>
            <a:ext cx="180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276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70640" y="400536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897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836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464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95520" y="401328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034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50920" y="4005360"/>
            <a:ext cx="133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02000" y="401328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43360" y="401328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16680" y="4016520"/>
            <a:ext cx="136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87920" y="401652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65640" y="400536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51280" y="4024440"/>
            <a:ext cx="1332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286160" y="4024440"/>
            <a:ext cx="1317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014480" y="4849920"/>
            <a:ext cx="172800" cy="233280"/>
          </a:xfrm>
          <a:prstGeom prst="triangle">
            <a:avLst>
              <a:gd name="adj" fmla="val 57144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86900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1 Samp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1244880" y="330696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03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520" y="5494320"/>
            <a:ext cx="200160" cy="201600"/>
          </a:xfrm>
          <a:prstGeom prst="flowChartExtra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6360" y="5497560"/>
            <a:ext cx="1131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SW Drop Pre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73440" y="3756240"/>
            <a:ext cx="3970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-720" bIns="46080" anchor="t" vert="eaVer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2440" y="2773440"/>
            <a:ext cx="331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88360" y="2881440"/>
            <a:ext cx="244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2b5d"/>
                </a:solidFill>
                <a:latin typeface="Arial"/>
              </a:rPr>
              <a:t>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414972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4005360"/>
            <a:ext cx="135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7124040" y="33260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.1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6620760" y="3324240"/>
            <a:ext cx="720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5.09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3038760" y="3375000"/>
            <a:ext cx="6879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31.07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4838040" y="3378240"/>
            <a:ext cx="682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28.8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09800" y="2492280"/>
            <a:ext cx="3938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11280" y="2492280"/>
            <a:ext cx="287640" cy="144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060640"/>
            <a:ext cx="10083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2b5d"/>
                </a:solidFill>
                <a:latin typeface="Arial"/>
              </a:rPr>
              <a:t>Bugfix +re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60360" y="1211400"/>
            <a:ext cx="3971880" cy="5014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32240" y="1211400"/>
            <a:ext cx="3971880" cy="50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Ke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2760" y="1288800"/>
            <a:ext cx="520848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3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8-02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1-03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25-04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2/S25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8-07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17-08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2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a-DK" sz="2400" spc="-1" strike="noStrike">
                <a:solidFill>
                  <a:srgbClr val="3a0e66"/>
                </a:solidFill>
                <a:latin typeface="Minion"/>
              </a:rPr>
              <a:t>09-10-20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8" name=""/>
          <p:cNvSpPr/>
          <p:nvPr/>
        </p:nvSpPr>
        <p:spPr>
          <a:xfrm>
            <a:off x="3875760" y="1333440"/>
            <a:ext cx="477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Agreed Product Backlog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3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0440" y="4049640"/>
            <a:ext cx="388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B1(</a:t>
            </a:r>
            <a:r>
              <a:rPr b="1" lang="de-DE" sz="1800" spc="-1" strike="noStrike" baseline="30000">
                <a:solidFill>
                  <a:srgbClr val="cc0000"/>
                </a:solidFill>
                <a:latin typeface="Minion"/>
                <a:ea typeface="文鼎中黑"/>
              </a:rPr>
              <a:t>+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) samples to VF: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03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73240" y="5129280"/>
            <a:ext cx="480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Start acceptance tests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10 Jul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07760" y="5797440"/>
            <a:ext cx="39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Global SW approval: 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cc0000"/>
                </a:solidFill>
                <a:latin typeface="Minion"/>
                <a:ea typeface="文鼎中黑"/>
              </a:rPr>
              <a:t>29 Sep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63400" y="77148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 Milestones (Ag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240" y="77148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Product Mile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418560" y="1752480"/>
            <a:ext cx="56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1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31 M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1240" y="2068560"/>
            <a:ext cx="38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7 A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414240" y="2570040"/>
            <a:ext cx="57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2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4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28640" y="2886120"/>
            <a:ext cx="388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1 M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26840" y="3351240"/>
            <a:ext cx="55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3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1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1240" y="3666960"/>
            <a:ext cx="37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VF Feedback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08 Ju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34760" y="4465800"/>
            <a:ext cx="55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print 4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+ Demo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by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91960" y="4781520"/>
            <a:ext cx="459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25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10 Ju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34760" y="5467320"/>
            <a:ext cx="38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S3-SW 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	</a:t>
            </a:r>
            <a:r>
              <a:rPr b="1" lang="de-DE" sz="2000" spc="-1" strike="noStrike">
                <a:solidFill>
                  <a:srgbClr val="3333ff"/>
                </a:solidFill>
                <a:latin typeface="Minion"/>
                <a:ea typeface="文鼎中黑"/>
              </a:rPr>
              <a:t>28 Ju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9572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Project Pla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613404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7200" y="804960"/>
            <a:ext cx="847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332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78440" y="763560"/>
            <a:ext cx="49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52160" y="76356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6360" y="76356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51800" y="763560"/>
            <a:ext cx="41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46320" y="763560"/>
            <a:ext cx="53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645960" y="763560"/>
            <a:ext cx="49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13920" y="76356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4760" y="7635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600" y="1033560"/>
            <a:ext cx="847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720" y="792000"/>
            <a:ext cx="0" cy="531504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75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7360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6244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164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44048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31120" y="7905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2176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120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83720" y="1096920"/>
            <a:ext cx="48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4200" y="10969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984280" y="1109520"/>
            <a:ext cx="38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69640" y="1096920"/>
            <a:ext cx="3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13600" y="109692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19240" y="1096920"/>
            <a:ext cx="71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3/S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3640" y="1096920"/>
            <a:ext cx="44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0672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95560" y="816120"/>
            <a:ext cx="0" cy="532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4760" y="803160"/>
            <a:ext cx="0" cy="5326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95480" y="1650960"/>
            <a:ext cx="1587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11520" y="1650960"/>
            <a:ext cx="1158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A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08520" y="1650960"/>
            <a:ext cx="12636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99120" y="1650960"/>
            <a:ext cx="13208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791400" y="1650960"/>
            <a:ext cx="93024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Ramp-U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9558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20960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1755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72088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1213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0865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6651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20396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686720" y="133452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85760" y="1484280"/>
            <a:ext cx="0" cy="467856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27320" y="14716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8604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851200" y="14209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3872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3880" y="145908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816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1433520"/>
            <a:ext cx="0" cy="4678200"/>
          </a:xfrm>
          <a:prstGeom prst="line">
            <a:avLst/>
          </a:prstGeom>
          <a:ln w="936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529320" y="1695600"/>
            <a:ext cx="2635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Minion"/>
                <a:ea typeface="文鼎中黑"/>
              </a:rPr>
              <a:t>Pilot R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76400" y="2212920"/>
            <a:ext cx="7398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</a:t>
            </a:r>
            <a:br>
              <a:rPr sz="1200"/>
            </a:b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835280" y="2212920"/>
            <a:ext cx="9777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Design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32120" y="2212920"/>
            <a:ext cx="9399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Hardt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08440" y="2212920"/>
            <a:ext cx="13111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3680" y="2212920"/>
            <a:ext cx="13395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Plastic Parts 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8260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101680" y="2852640"/>
            <a:ext cx="90036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3048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51360" y="2852640"/>
            <a:ext cx="900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a0e66"/>
                </a:solidFill>
                <a:latin typeface="Minion"/>
                <a:ea typeface="文鼎中黑"/>
              </a:rPr>
              <a:t>Sprint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14560" y="3252960"/>
            <a:ext cx="95868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c simu set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-up / power on dialo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Phone spaces, colour schemes, icons, fo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and feel bas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and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 or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049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/ power on dialog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.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lume Side, Ringer Side &amp; and lock ke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ync. incl. remote sy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48120" y="3252960"/>
            <a:ext cx="93024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tartup As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call screens full func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oice messag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enu look &amp; Feel – full compli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Contact List &amp; Menu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creen Transitions (Sliding Effect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iew contact lo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Remove, disable or hide fe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 Clo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14720" y="3252960"/>
            <a:ext cx="939960" cy="257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dle Scre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Interruption by ev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Sleep mode with timer setting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Text messages (S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hover functionality in Contact li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Alar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100000"/>
              </a:lnSpc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a0e66"/>
                </a:solidFill>
                <a:latin typeface="Minion"/>
                <a:ea typeface="文鼎中黑"/>
              </a:rPr>
              <a:t>Msg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" y="2714760"/>
            <a:ext cx="8077320" cy="9360"/>
          </a:xfrm>
          <a:prstGeom prst="line">
            <a:avLst/>
          </a:prstGeom>
          <a:ln w="3816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1480" y="1690560"/>
            <a:ext cx="101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09556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488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75120" y="5900760"/>
            <a:ext cx="647640" cy="17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800" y="5891040"/>
            <a:ext cx="839880" cy="177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5600" y="5888160"/>
            <a:ext cx="1362240" cy="188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Pre-Test by V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610320" y="5327640"/>
            <a:ext cx="1316160" cy="39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Minion"/>
                <a:ea typeface="文鼎中黑"/>
              </a:rPr>
              <a:t>Global SW Approv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7043760" y="5590440"/>
            <a:ext cx="247680" cy="1904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2280" y="2246400"/>
            <a:ext cx="10645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6800" y="2854440"/>
            <a:ext cx="925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– Market Positioning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00080"/>
            <a:ext cx="830592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Jerry is targeting the </a:t>
            </a:r>
            <a:r>
              <a:rPr b="0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 program.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66880" y="18111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520" y="284328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1 : Sagem VS1 and V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Vofafone Simply Sagem VS3"/>
          <p:cNvPicPr/>
          <p:nvPr/>
        </p:nvPicPr>
        <p:blipFill>
          <a:blip r:embed="rId2"/>
          <a:stretch/>
        </p:blipFill>
        <p:spPr>
          <a:xfrm>
            <a:off x="6689880" y="3760920"/>
            <a:ext cx="415800" cy="12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Sagem VS1&#10;MORE PICTUR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92960" y="244944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Sagem VS2"/>
          <p:cNvPicPr/>
          <p:nvPr/>
        </p:nvPicPr>
        <p:blipFill>
          <a:blip r:embed="rId5"/>
          <a:stretch/>
        </p:blipFill>
        <p:spPr>
          <a:xfrm>
            <a:off x="7497720" y="240336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669000" y="5175360"/>
            <a:ext cx="492120" cy="1143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520" y="4113360"/>
            <a:ext cx="877896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520" y="5275440"/>
            <a:ext cx="87789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F Simply Rel. 3: BenQ Jerry (VS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 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ppealing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76240" y="1397160"/>
            <a:ext cx="7391520" cy="479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360" y="80964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Design Status 20 Feb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11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by dedicated hardkey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8" name="" descr="Special Buttons"/>
          <p:cNvPicPr/>
          <p:nvPr/>
        </p:nvPicPr>
        <p:blipFill>
          <a:blip r:embed="rId1"/>
          <a:stretch/>
        </p:blipFill>
        <p:spPr>
          <a:xfrm>
            <a:off x="760320" y="1195560"/>
            <a:ext cx="2032200" cy="5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1096920" y="1546200"/>
          <a:ext cx="5075280" cy="326880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326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Idle Screen / Event Space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Contacts Space”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inion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3a0e66"/>
                          </a:solidFill>
                          <a:latin typeface="Minion"/>
                          <a:ea typeface="宋体"/>
                        </a:rPr>
                        <a:t>Menu Space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0" name=""/>
          <p:cNvGrpSpPr/>
          <p:nvPr/>
        </p:nvGrpSpPr>
        <p:grpSpPr>
          <a:xfrm>
            <a:off x="723960" y="2154240"/>
            <a:ext cx="1561680" cy="2239920"/>
            <a:chOff x="723960" y="2154240"/>
            <a:chExt cx="1561680" cy="223992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752400" y="2154240"/>
              <a:ext cx="965160" cy="223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723960" y="3652920"/>
              <a:ext cx="9604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995400" y="2538360"/>
              <a:ext cx="12492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221840" y="3328920"/>
              <a:ext cx="1063800" cy="38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1450800" y="3749760"/>
              <a:ext cx="7272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07000" y="3967200"/>
            <a:ext cx="1996920" cy="2133360"/>
            <a:chOff x="5607000" y="3967200"/>
            <a:chExt cx="1996920" cy="2133360"/>
          </a:xfrm>
        </p:grpSpPr>
        <p:pic>
          <p:nvPicPr>
            <p:cNvPr id="77" name="" descr=""/>
            <p:cNvPicPr/>
            <p:nvPr/>
          </p:nvPicPr>
          <p:blipFill>
            <a:blip r:embed="rId3"/>
            <a:stretch/>
          </p:blipFill>
          <p:spPr>
            <a:xfrm>
              <a:off x="5619600" y="3967200"/>
              <a:ext cx="5716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6337080" y="4556160"/>
              <a:ext cx="1266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Volume hi/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07000" y="4402080"/>
              <a:ext cx="652320" cy="557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5083200"/>
            <a:ext cx="2844720" cy="552600"/>
            <a:chOff x="1295280" y="5083200"/>
            <a:chExt cx="2844720" cy="552600"/>
          </a:xfrm>
        </p:grpSpPr>
        <p:pic>
          <p:nvPicPr>
            <p:cNvPr id="81" name="" descr=""/>
            <p:cNvPicPr/>
            <p:nvPr/>
          </p:nvPicPr>
          <p:blipFill>
            <a:blip r:embed="rId4"/>
            <a:stretch/>
          </p:blipFill>
          <p:spPr>
            <a:xfrm>
              <a:off x="1295280" y="5083200"/>
              <a:ext cx="133848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720160" y="5214960"/>
              <a:ext cx="141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ower on/of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514840" y="1339920"/>
            <a:ext cx="2815920" cy="2247480"/>
            <a:chOff x="5514840" y="1339920"/>
            <a:chExt cx="2815920" cy="2247480"/>
          </a:xfrm>
        </p:grpSpPr>
        <p:sp>
          <p:nvSpPr>
            <p:cNvPr id="84" name=""/>
            <p:cNvSpPr/>
            <p:nvPr/>
          </p:nvSpPr>
          <p:spPr>
            <a:xfrm>
              <a:off x="6182640" y="3151080"/>
              <a:ext cx="144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ck / Un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514840" y="1339920"/>
              <a:ext cx="2815920" cy="2195280"/>
              <a:chOff x="5514840" y="1339920"/>
              <a:chExt cx="2815920" cy="2195280"/>
            </a:xfrm>
          </p:grpSpPr>
          <p:pic>
            <p:nvPicPr>
              <p:cNvPr id="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1339920"/>
                <a:ext cx="644400" cy="21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127560" y="1993680"/>
                <a:ext cx="220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inger Profile Set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514840" y="1839600"/>
                <a:ext cx="652320" cy="556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5551200" y="3030480"/>
              <a:ext cx="652320" cy="5569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222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User Interface"/>
          <p:cNvPicPr/>
          <p:nvPr/>
        </p:nvPicPr>
        <p:blipFill>
          <a:blip r:embed="rId1"/>
          <a:stretch/>
        </p:blipFill>
        <p:spPr>
          <a:xfrm>
            <a:off x="603360" y="120636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158920"/>
            <a:ext cx="1144800" cy="1416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15892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158920"/>
            <a:ext cx="1171440" cy="14194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15892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456080"/>
            <a:ext cx="3519360" cy="1575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39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–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“Easy-to-Use” user interface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816120"/>
            <a:ext cx="1874880" cy="438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PM Kheng W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Arjen Bro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Lars B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-T Sara S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5116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782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CM/IM/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21480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48360" y="3646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48360" y="407844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451008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 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48360" y="4943520"/>
            <a:ext cx="151128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48360" y="530208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- 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1280" y="1844640"/>
            <a:ext cx="338472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1844640"/>
            <a:ext cx="273708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44640"/>
            <a:ext cx="2017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421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L SW Yang Y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2852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Archite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28464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 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06560" y="5075280"/>
            <a:ext cx="2475000" cy="5540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rd Party: SISL Ind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989000"/>
            <a:ext cx="1511280" cy="28764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PM Zhang Shua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71628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88600" y="1482840"/>
            <a:ext cx="19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:  Software / 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0440" y="1463760"/>
            <a:ext cx="224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alborg:  HW / 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3520" y="1268280"/>
            <a:ext cx="18295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eijing / Shanghai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usin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4149720"/>
            <a:ext cx="180000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285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C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57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393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er C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29264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pplication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465300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rategy Procu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01336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372280"/>
            <a:ext cx="1800360" cy="2872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 P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8000" y="11592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a0e66"/>
                </a:solidFill>
                <a:latin typeface="Minion"/>
                <a:ea typeface="文鼎中黑"/>
              </a:rPr>
              <a:t>BenQ Siemens Jerry –Org Chart per site &amp;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8040" y="603360"/>
            <a:ext cx="8229600" cy="601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WK / 2006-02-2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22T11:27:53Z</dcterms:modified>
  <cp:revision>173</cp:revision>
  <dc:subject/>
  <dc:title>PowerPoint</dc:title>
</cp:coreProperties>
</file>